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ICOCHET.WAV" ContentType="audio/x-wav"/>
  <Override PartName="/ppt/media/WHOOSH.WAV" ContentType="audio/x-wav"/>
  <Override PartName="/ppt/media/DRIVEBY.WAV" ContentType="audio/x-wav"/>
  <Override PartName="/ppt/media/CARBRAKE.WAV" ContentType="audio/x-wav"/>
  <Override PartName="/ppt/media/LASER.WAV" ContentType="audio/x-wav"/>
  <Override PartName="/ppt/media/CAMERA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9C9-09EC-485F-8904-BA542738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9FF-1EB1-4D68-A466-98B697AA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753-9654-4AD1-8D23-04A34D92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42D-CB71-4FDB-8995-DFA8D2E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00B-A5F2-403C-9F06-49BF43F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111-39E0-4AE8-B73C-49C8B756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CCE-831C-47D0-9AAE-C920C0BD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730-EB83-4419-BBE1-9FB178DA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377-BBB1-4E58-9B3B-CE2C8E4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4D9-3A90-4E0E-B729-B2EB634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884-3EA0-4BA6-97CE-6B7DBE6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EAC-603F-4BD9-B5BF-1248BD8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CCEA-3CEC-4C6A-899B-F0E9030AD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ICOCHET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752480" y="2971800"/>
                <a:ext cx="497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6629400" y="5334120"/>
            <a:ext cx="314280" cy="352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486400"/>
            <a:ext cx="3782880" cy="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5334120"/>
            <a:ext cx="311400" cy="3204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905120" y="5562720"/>
                <a:ext cx="642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 txBox="1"/>
          <p:nvPr/>
        </p:nvSpPr>
        <p:spPr>
          <a:xfrm>
            <a:off x="762120" y="533520"/>
            <a:ext cx="74674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 INEQUAL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80880" y="1600200"/>
                <a:ext cx="407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95680" y="1447920"/>
                <a:ext cx="43434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09680"/>
                <a:ext cx="1147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429000" y="220968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09480" y="2895480"/>
            <a:ext cx="3892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3048120"/>
                <a:ext cx="639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71800" y="2971800"/>
                <a:ext cx="496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828800" y="4446720"/>
                <a:ext cx="1447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52880" y="2057400"/>
                <a:ext cx="3581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72000" y="2666880"/>
                <a:ext cx="11811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876920" y="34290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907240" y="3581280"/>
                <a:ext cx="5601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07240" y="3581280"/>
                <a:ext cx="1662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736040" y="3505320"/>
                <a:ext cx="14079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57200" y="5486400"/>
            <a:ext cx="3738600" cy="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5334120"/>
            <a:ext cx="144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334120"/>
            <a:ext cx="144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334120"/>
            <a:ext cx="1800" cy="32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43200" y="5562720"/>
                <a:ext cx="641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066680" y="5562720"/>
                <a:ext cx="6066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4120" y="5334120"/>
            <a:ext cx="144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5486400"/>
            <a:ext cx="175248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334120"/>
            <a:ext cx="144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280" y="5334120"/>
            <a:ext cx="180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5334120"/>
            <a:ext cx="1800" cy="35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43600" y="5715000"/>
                <a:ext cx="12952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181480" y="5715000"/>
                <a:ext cx="2890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        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934320" y="5486400"/>
            <a:ext cx="16761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62320" y="2209680"/>
                <a:ext cx="1147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23880" y="220968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96080" y="2666880"/>
                <a:ext cx="99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2666880"/>
                <a:ext cx="9889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553080" y="2666880"/>
                <a:ext cx="11811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200400"/>
                <a:ext cx="455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666880" y="3048120"/>
                <a:ext cx="1054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40400" y="3733920"/>
                <a:ext cx="4302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21640" y="3581280"/>
                <a:ext cx="736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10280" y="5867280"/>
            <a:ext cx="304920" cy="304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5680" y="579024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l       l       l       l       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457200"/>
            <a:ext cx="73152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INEQUAL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80880" y="914400"/>
                <a:ext cx="8382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28680" y="1523880"/>
                <a:ext cx="2455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4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28800" y="1523880"/>
                <a:ext cx="266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    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19320" y="220968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52480" y="2209680"/>
                <a:ext cx="1001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33720" y="2133720"/>
                <a:ext cx="160632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0" y="3352680"/>
                <a:ext cx="19479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118120" y="1447920"/>
                <a:ext cx="2527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−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1447920"/>
                <a:ext cx="285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5257800" y="21337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78600" y="2216160"/>
                <a:ext cx="650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248520" y="2743200"/>
                <a:ext cx="1504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48320" y="2971800"/>
                <a:ext cx="971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5800" y="601992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86280" y="5752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0720" y="6094800"/>
            <a:ext cx="74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- 6   - 4     - 2      0      2       4      6       8     10     12  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486400"/>
            <a:ext cx="228600" cy="2286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5638680"/>
            <a:ext cx="60195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5181480"/>
            <a:ext cx="228600" cy="2286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9144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6019920"/>
            <a:ext cx="914400" cy="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66880" y="2286000"/>
                <a:ext cx="433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48120" y="2209680"/>
                <a:ext cx="696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05720" y="2286000"/>
                <a:ext cx="4633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38880" y="2209680"/>
                <a:ext cx="463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2590920"/>
            <a:ext cx="228600" cy="3045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2590920"/>
            <a:ext cx="228600" cy="3045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2840" y="251352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l       l       l       l       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9240" y="457200"/>
            <a:ext cx="8696160" cy="495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 ABSOLUTE  VAL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14600" y="914400"/>
                <a:ext cx="323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90800" y="1904040"/>
            <a:ext cx="88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efinition, it is less than____units away from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0600" y="289476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- 15    - 10     - 5        0        5       10       15     20       25     30       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743200"/>
            <a:ext cx="480060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440" y="33519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lge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1280" y="38858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- 9 &lt;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87280" y="388584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- 9 &gt; - 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88240" y="4343040"/>
            <a:ext cx="14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9     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39280" y="49525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&lt; 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71200" y="43430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9       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495288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2800" y="495252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y &gt; -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11160" y="49525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8360" y="1828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29680" y="1850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600200" y="3581280"/>
                <a:ext cx="16416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32840" y="5942520"/>
            <a:ext cx="68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      l       l       l       l       l       l       l       l       l   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6019920"/>
            <a:ext cx="244440" cy="3045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6019920"/>
            <a:ext cx="244440" cy="3045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9240" y="457200"/>
            <a:ext cx="8696160" cy="495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TES  OVER  ABSOLUTE  VAL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838080"/>
                <a:ext cx="38102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3840" y="182808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lge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62120" y="2438280"/>
                <a:ext cx="2730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29200" y="2057400"/>
                <a:ext cx="28954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536920" y="2955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23880" y="2971800"/>
                <a:ext cx="18637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715000" y="2590920"/>
                <a:ext cx="21128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762120" y="35053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2004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523880" y="3581280"/>
                <a:ext cx="18288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715000" y="3200400"/>
                <a:ext cx="2193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3200400"/>
                <a:ext cx="190980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752480" y="4876920"/>
                <a:ext cx="1409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943600" y="4419720"/>
                <a:ext cx="220824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1560" y="6338160"/>
            <a:ext cx="76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-12    -9    -6    -3     0     3     6     9     12   15  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6172200"/>
            <a:ext cx="3200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70000" y="1374120"/>
            <a:ext cx="69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stellar"/>
              </a:rPr>
              <a:t>Book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stellar"/>
              </a:rPr>
              <a:t>pg. 656 #17-75 first colum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675"/>
                            </p:stCondLst>
                            <p:childTnLst>
                              <p:par>
                                <p:cTn id="509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20:18:39Z</dcterms:created>
  <dc:creator>CCSS</dc:creator>
  <dc:description/>
  <dc:language>en-US</dc:language>
  <cp:lastModifiedBy>damon.skelton</cp:lastModifiedBy>
  <dcterms:modified xsi:type="dcterms:W3CDTF">2003-04-17T16:11:39Z</dcterms:modified>
  <cp:revision>10</cp:revision>
  <dc:subject/>
  <dc:title>No Slide Title</dc:title>
</cp:coreProperties>
</file>